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2A2-66D4-47AE-AA49-0F7AB6F4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3960" y="354492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04FF-2C9A-434D-9BDE-1516F0ED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040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F745-6269-4CB0-9A5C-342E6759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564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768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396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564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768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554F-CAEA-4F7D-A3E4-398A41FD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9449-B592-4EF8-941F-0159BEEA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3960" y="1415880"/>
            <a:ext cx="834552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39C8-4134-43F9-AEA8-E8C91F03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83455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463D-883A-48ED-94F9-40783480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8E97-E843-4C08-9C37-D25CC1FA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BF72-3248-4170-BF49-5AD78DB7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3600" y="231840"/>
            <a:ext cx="837252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24D8-E14B-495E-8A23-42540829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EC97-14D8-47D4-8D25-0ABC5A93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3960" y="1415880"/>
            <a:ext cx="834552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0893-B34F-46E2-967B-ACB76EDF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3040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01A4-69AC-4CB0-B203-4A8F35DE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09A4-38E8-4203-9945-EE82CC42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3960" y="354492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8988-1DCB-46A2-A0BA-4C4AA593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3040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7EFE-B59F-413C-A634-FF12A272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7564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768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396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7564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768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5360-D7CF-4B64-8C01-40B99489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3960" y="1415880"/>
            <a:ext cx="834552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83455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83455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2BD-9FF0-44A8-8212-75B95836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3600" y="231840"/>
            <a:ext cx="837252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3040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3960" y="354492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3040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564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768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396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564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9768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3960" y="1415880"/>
            <a:ext cx="834552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83455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A8F-BC60-4832-8F1D-CB45246C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3600" y="231840"/>
            <a:ext cx="837252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3040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3960" y="354492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3040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7564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768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396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7564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9768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740-D5CB-4886-B7BC-C9D5E29B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3600" y="231840"/>
            <a:ext cx="837252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ED5B-71B7-4B66-93C3-99D8C6C4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D40-B22A-47BF-BD76-347F00ED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040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2838-6B10-4B66-925A-A60398A0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160-F35C-4197-BFE5-991C2220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38188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ec5d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ec5d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46000"/>
            <a:ext cx="838188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6440" indent="-49644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891000" indent="-39240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2" marL="1299600" indent="-40680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3" marL="1994400" indent="-46476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4" marL="2572560" indent="-46512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5" marL="2572560" indent="-46512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6" marL="2572560" indent="-46512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B8FC-787B-4CD1-969F-7784AD3CA358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8ABC-8183-4A3E-B6D2-96CD91FB7BC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ec5d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ec5d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19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C14B-21CE-4C4D-82EE-1C4A1E739F01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8576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DABB-DADC-4CCE-9C38-9379766FDFB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3960" y="1415880"/>
            <a:ext cx="83455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2520" indent="-4366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909440" indent="-46476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76360" indent="-465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76360" indent="-4651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76360" indent="-4651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3960" y="162072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5920" algn="ctr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59080" algn="ctr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1930320" algn="ctr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193032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193032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msdn.com/" TargetMode="External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360" y="1557360"/>
            <a:ext cx="861084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Microsoft</a:t>
            </a:r>
            <a:r>
              <a:rPr b="1" lang="en-US" sz="3200" spc="-1" strike="noStrike" baseline="82000">
                <a:solidFill>
                  <a:srgbClr val="ffcc00"/>
                </a:solidFill>
                <a:latin typeface="Arial"/>
              </a:rPr>
              <a:t>®</a:t>
            </a: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Visual FoxPro</a:t>
            </a:r>
            <a:r>
              <a:rPr b="1" lang="en-US" sz="3200" spc="-1" strike="noStrike" baseline="82000">
                <a:solidFill>
                  <a:srgbClr val="ffcc00"/>
                </a:solidFill>
                <a:latin typeface="Arial"/>
              </a:rPr>
              <a:t>®</a:t>
            </a: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 9.0 Beta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95360" y="4394160"/>
            <a:ext cx="7851600" cy="112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ke Stew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FoxPro Advisor – July 2004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3960" y="1415520"/>
            <a:ext cx="8345520" cy="527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vailable mid 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orting (detailed bands) in VFP 9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rew MacNei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queries in VFP 9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mar E. Gran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r Interfaces in VFP 9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ni Feltm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 and Class Design in VFP 9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ew Speed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orting (GDI+) in VFP 9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istof Wollenhaup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FoxTalk 2.0 – June 2004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3960" y="1415520"/>
            <a:ext cx="8345520" cy="527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Editor – David Stevens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 Cool Things in VFP 9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vid Stevens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mberData and Custom Property Edi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ug Henn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ps from the VFP Te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Visual FoxPro Te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chors Awe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y Kramek and Marcia Ak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’s New in the VFP 9.0 Report Wri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thy Pountn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alls To Action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72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wnload VFP 9.0 be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 VFP 9.0 beta with appli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y new VFP 9.0 beta fea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port VFP 9.0 beta bugs fou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t about VFP 9.0 online with oth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w samples and extensions written in VFP now available for downloa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17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ual FoxPro 9.0 Beta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ual FoxPro 9.0 Beta Feedba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 and Resour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Some VFP Team Members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19200" y="963720"/>
            <a:ext cx="7850160" cy="588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Visual FoxPro 9.0 Overview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52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ed on wish list customer feedba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tain backward compati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hance database language and 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itional end user UI fea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developer productiv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 Report Writer significant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d .NET and SQL Server intero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extensibility, Xbase source c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heduled release: 4Q 200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Visual FoxPro 9.0 Themes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51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-Handling and Interopera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NET interop – XML  and XML Web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QL Server interop – types and langu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ble Developer Productivity Too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orts, forms, controls, IntelliSense, 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erty sheet customiz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exibility for All Types of Solu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rt client to Tablet PC appli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Reporting System Goals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66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tect existing FRX invest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n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tter reuse s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-time improv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s to report objects at runti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flexibility with Report Chai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output types (e.g., XML, HTM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port processing ev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VFP 9.0 Beta Feedback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3960" y="1415520"/>
            <a:ext cx="8345520" cy="31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g Repor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msdn.com/vfoxpro/sup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ty resour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VFP newsgrou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ted VFP commun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msdn.com/vfoxpro/commun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.NET Resources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3960" y="1415520"/>
            <a:ext cx="8345520" cy="392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SDN web si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8c36b"/>
                </a:solidFill>
                <a:uFillTx/>
                <a:latin typeface="Arial"/>
                <a:hlinkClick r:id="rId2"/>
              </a:rPr>
              <a:t>http://msdn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ual FoxPro Toolkit for 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gotdotnet.com/team/vf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NET whitepaper for VFP develop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NET samples for VFP develop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NET Forum on UniversalThread.c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Visual FoxPro Resources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8345520" cy="540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FP web site on msdn.c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msdn. com/vfoxpr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wnload VFP 9.0 public be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tepapers and samples for VFP 9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S Data Team Blo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blogs.msdn.com/vsd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De Magazine Focus issue for VF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code-magazine.com/focus/vf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edition for VFP 9.0 in fall 200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ttp://FoxToolbox.com (DBX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02:35:08Z</dcterms:created>
  <dc:creator/>
  <dc:description/>
  <cp:keywords/>
  <dc:language>en-US</dc:language>
  <cp:lastModifiedBy>Mike Stewart</cp:lastModifiedBy>
  <dcterms:modified xsi:type="dcterms:W3CDTF">2004-08-10T18:02:34Z</dcterms:modified>
  <cp:revision>798</cp:revision>
  <dc:subject/>
  <dc:title>Microsoft®  Visual FoxPro® 8.0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